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21A-D570-4DF6-8E03-4ADC669E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73B-9E1E-4079-81F0-9113ADD1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48E-6026-4C5D-9781-158EA1EB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56E-5383-410F-A056-E8737A37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BE7-E167-45F9-9C5D-87D0C60E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753-4109-4509-B679-E62B4398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600-9C57-4DE5-B822-1BCA485B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E0E-E25C-4084-B220-B0CE704A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806-D328-43E7-A2F1-331BD8E2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205-6A02-4818-B5A6-13AE5D01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D48-D0E9-4D41-84E3-5E5881F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9C1-BCBB-4D0D-87C4-131B8DE7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3A2-0EA2-4842-89E7-D373DC62B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3045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34640" y="1447920"/>
            <a:ext cx="54766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ead of sa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crocodile did not atta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til he reached the sho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might be more dramatic and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until he reached the s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581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d the crocodile at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86200" y="43480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362320" cy="209556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76201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1178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566" h="21600">
                <a:moveTo>
                  <a:pt x="1178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566" h="21600">
                <a:moveTo>
                  <a:pt x="9207" y="8224"/>
                </a:moveTo>
                <a:lnTo>
                  <a:pt x="13071" y="8224"/>
                </a:lnTo>
                <a:lnTo>
                  <a:pt x="13071" y="15221"/>
                </a:lnTo>
                <a:lnTo>
                  <a:pt x="14359" y="15221"/>
                </a:lnTo>
                <a:lnTo>
                  <a:pt x="14359" y="16144"/>
                </a:lnTo>
                <a:lnTo>
                  <a:pt x="9207" y="16144"/>
                </a:lnTo>
                <a:lnTo>
                  <a:pt x="9207" y="15221"/>
                </a:lnTo>
                <a:lnTo>
                  <a:pt x="10495" y="15221"/>
                </a:lnTo>
                <a:lnTo>
                  <a:pt x="10495" y="9129"/>
                </a:lnTo>
                <a:lnTo>
                  <a:pt x="9207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00200" y="914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ould also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752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nly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7960" y="312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 reached the s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43434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d the crocodile at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048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nly 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99072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 Inversions Index overleaf and click on what you w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ions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32400" y="1466280"/>
            <a:ext cx="33163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fter negative adverbi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ver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wher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t for one minut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t sinc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t until 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ver again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arely  …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fter certain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tence patte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 sooner ….. than …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ardly ….. when …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arely….. when …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carcely….. when …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ttl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expressions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’ and ‘no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after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when 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 only … , but … also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 no tim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der no circumstance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 no account 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ditionals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‘if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uld ….. , ….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re ….. , ….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d ….. , ….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3962520" y="1523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3962520" y="3962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467480" y="1523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4038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724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5105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54864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fter negative adverbial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ver had he seen such a small eleph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here will you find better pael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until I got home did I start to feel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rely do you taste such delicious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3040" y="83808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ransforming the following sent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e have never done inversion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before …………………………. inversio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y had not come across them any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here ……………………………… the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She didn’t meet it until she reached Level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ntil …………………………………… meet i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You rarely encounter such a thought-provoking 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rely ……………………………… such a thought-provoking 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certain established sentence pattern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ooner had I entered the room than she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dly had he finished eating when he fell a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ely had they sat down when the chair collap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rcely had he left the saddle when they shot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tle did I suspect his true inten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46720" y="83808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ry these for siz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s soon as the teacher arrived, they all stoo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oner ………………………… they all stoo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moment she sat down, the telephone r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rcely …………………… the telephone r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eir mother knew little of their weekend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……………….… of their weekend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0" y="600120"/>
            <a:ext cx="2286000" cy="153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477200" y="4343400"/>
            <a:ext cx="1666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expressions with ‘only’ and ‘no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nly did he solve mysteries, but he also played the vio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when I got home did I realise my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no time did I ever feel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no circumstances should you open that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after he had left did she begin to lau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no account are you to tell your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990720"/>
            <a:ext cx="56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6094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5029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ten we speak English this way u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905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ry these for siz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Holmes didn’t let on about his hobby at any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no time  …………………… let on about his hob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You shouldn’t open that box on any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no account………………………. that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 You must not enter the water again u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circum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no circumstances 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……………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32680" y="609480"/>
            <a:ext cx="185904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8600" y="2897280"/>
            <a:ext cx="2038320" cy="152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4724280"/>
            <a:ext cx="24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ditionals instead of ‘if’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you require further information, please do not hesitate to contact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e you to find a snake in your bed, what would you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d I known you were coming, I would have baked a c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3040" y="76212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23623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715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first condi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Should you requi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urther informa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ease do not hesitate to contact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98280" y="114300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k what can happen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16765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requi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urther information, please do not hesitate to contact 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3526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should requi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urther information, please do not hesitate to contact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209680"/>
            <a:ext cx="152280" cy="1371600"/>
          </a:xfrm>
          <a:prstGeom prst="downArrow">
            <a:avLst>
              <a:gd name="adj1" fmla="val 50000"/>
              <a:gd name="adj2" fmla="val 225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153400">
            <a:off x="2209680" y="3733560"/>
            <a:ext cx="152640" cy="1447560"/>
          </a:xfrm>
          <a:prstGeom prst="downArrow">
            <a:avLst>
              <a:gd name="adj1" fmla="val 50000"/>
              <a:gd name="adj2" fmla="val 2370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573200">
            <a:off x="2286000" y="3733560"/>
            <a:ext cx="152280" cy="1447560"/>
          </a:xfrm>
          <a:prstGeom prst="downArrow">
            <a:avLst>
              <a:gd name="adj1" fmla="val 50000"/>
              <a:gd name="adj2" fmla="val 23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9543800">
            <a:off x="3200040" y="2057400"/>
            <a:ext cx="152280" cy="1600200"/>
          </a:xfrm>
          <a:prstGeom prst="downArrow">
            <a:avLst>
              <a:gd name="adj1" fmla="val 50000"/>
              <a:gd name="adj2" fmla="val 2627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2920" y="1676520"/>
            <a:ext cx="132372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cond conditionals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ere you to co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cross a snake, what would yo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3040" y="106668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1962000" cy="1471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520" y="3124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you cam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cross a snake, what would you do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0384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you were to com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cross a snake, what would you do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35812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3327600">
            <a:off x="1245960" y="4266720"/>
            <a:ext cx="152280" cy="1219320"/>
          </a:xfrm>
          <a:prstGeom prst="down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9437600">
            <a:off x="1294920" y="4419360"/>
            <a:ext cx="152640" cy="990360"/>
          </a:xfrm>
          <a:prstGeom prst="downArrow">
            <a:avLst>
              <a:gd name="adj1" fmla="val 50000"/>
              <a:gd name="adj2" fmla="val 1622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905000">
            <a:off x="2057040" y="3504960"/>
            <a:ext cx="152280" cy="761760"/>
          </a:xfrm>
          <a:prstGeom prst="downArrow">
            <a:avLst>
              <a:gd name="adj1" fmla="val 50000"/>
              <a:gd name="adj2" fmla="val 12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8781200">
            <a:off x="2280960" y="3353040"/>
            <a:ext cx="152640" cy="1066680"/>
          </a:xfrm>
          <a:prstGeom prst="downArrow">
            <a:avLst>
              <a:gd name="adj1" fmla="val 50000"/>
              <a:gd name="adj2" fmla="val 1747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ird conditionals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952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ad I known you were coming, I would have baked a c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3040" y="106668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81280" y="1562040"/>
            <a:ext cx="177192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7480" y="3581280"/>
            <a:ext cx="80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I had known you were coming, I would have baked a c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96800">
            <a:off x="990360" y="396252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706000">
            <a:off x="1066320" y="3962160"/>
            <a:ext cx="152640" cy="1066680"/>
          </a:xfrm>
          <a:prstGeom prst="downArrow">
            <a:avLst>
              <a:gd name="adj1" fmla="val 50000"/>
              <a:gd name="adj2" fmla="val 1747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67600" y="228600"/>
            <a:ext cx="2876400" cy="2163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84440" y="2571840"/>
            <a:ext cx="7576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Holmes didn’t let on about his hobby at any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no time  …………………… let on about his hob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You shouldn’t open that box on any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no account………………………. that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 You must not enter the water again u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circum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no circumstances 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……………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asionally, however, we might feel the need to invert some of the sentence order for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instead of sa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d never seen such a small eleph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ight choose to be more dramatic and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137160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76720" y="2490840"/>
            <a:ext cx="457200" cy="35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4038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ver had he seen such a small eleph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sa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soon as Holmes lit his pipe, a strange event occur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ight be more mysterious and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380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sooner had Holmes lit his pi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067040" cy="130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571500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22860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 a strange event occ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886200" y="3048120"/>
            <a:ext cx="2612880" cy="350496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620120" y="57150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187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752" h="21600">
                <a:moveTo>
                  <a:pt x="1187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752" h="21600">
                <a:moveTo>
                  <a:pt x="9300" y="8224"/>
                </a:moveTo>
                <a:lnTo>
                  <a:pt x="13164" y="8224"/>
                </a:lnTo>
                <a:lnTo>
                  <a:pt x="13164" y="15221"/>
                </a:lnTo>
                <a:lnTo>
                  <a:pt x="14452" y="15221"/>
                </a:lnTo>
                <a:lnTo>
                  <a:pt x="14452" y="16144"/>
                </a:lnTo>
                <a:lnTo>
                  <a:pt x="9300" y="16144"/>
                </a:lnTo>
                <a:lnTo>
                  <a:pt x="9300" y="15221"/>
                </a:lnTo>
                <a:lnTo>
                  <a:pt x="10588" y="15221"/>
                </a:lnTo>
                <a:lnTo>
                  <a:pt x="10588" y="9129"/>
                </a:lnTo>
                <a:lnTo>
                  <a:pt x="9300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914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ould also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438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ar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7960" y="312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048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ad Holmes lit his p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343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3434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strange event occ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2971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carc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41440" y="1447920"/>
            <a:ext cx="646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sa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lmes not only solved mysteri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he also played the viol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for a change we might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2819520" cy="405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905120" cy="297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14600" y="1219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only did he solve mysteri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2670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he also played the vio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4:12:31Z</dcterms:created>
  <dc:creator>Michael D Hardinge</dc:creator>
  <dc:description/>
  <dc:language>en-US</dc:language>
  <cp:lastModifiedBy>GTI Build</cp:lastModifiedBy>
  <dcterms:modified xsi:type="dcterms:W3CDTF">2003-03-28T10:44:39Z</dcterms:modified>
  <cp:revision>21</cp:revision>
  <dc:subject/>
  <dc:title>Inversions</dc:title>
</cp:coreProperties>
</file>